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D227-0603-466B-974C-1B8094912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6676-4F94-4781-BC6A-93360E95F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ED6E-6DF7-4BC1-9985-D9B67081A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7CF64-000C-49F3-B964-2B9CCB330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EEC25-86FD-43DD-ACD6-17BB34313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FBAE2-E979-4230-A9B2-C5FA99CB1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FC6BE-A0A4-447A-9659-1171CDE07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A7944-5E8D-4EF3-A063-D5AA45264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2FB4-E300-4D51-A810-0BDAF6138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3996E-F0F1-4535-8AEE-1C0695A14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4F244-4604-4F53-AF77-AB9A81CB5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C52B4-3555-4CD3-B321-600FF7856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B34BF-9439-44BB-A3A8-D2CF9ECB3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85F6F-0CAB-4257-9CC3-5A0FA640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0FEF-5EBA-4971-AE31-92BE6365B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03F8D-9380-4454-8D3D-46F3B3AE8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6F1A7-8244-4958-99BC-A032982E7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B554-C457-4887-9B8D-296438AA0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4854-9557-47B9-927E-52D5C7EB4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33D0-9FFD-4FE1-87A4-12A43D5F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0BBC-9D6A-465E-9046-C3BB2FD52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A874-49F2-4E63-91DC-877584F8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AF89-B03A-43D9-8198-6E2B2379A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6302-975E-4645-8092-23789AD7F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4f4f4f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413F-183D-417C-AEED-C80888EFCE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474747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646464"/>
                </a:gs>
                <a:gs pos="100000">
                  <a:srgbClr val="545454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4d4ce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8dc4d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E8D7A-9F65-4D4B-A8C3-FBBADAE83F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Wpływ biernego palenia na zdrowie człowieka</a:t>
            </a:r>
            <a:endParaRPr b="0" lang="en-US" sz="5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4571640"/>
            <a:ext cx="51055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kcja Oświaty Zdrowotnej i Promocji Zdrow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owiatowa Stacja Sanitarno – Epidemiologiczna w Toruniu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6095880" y="3429000"/>
            <a:ext cx="24973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-732960"/>
            <a:ext cx="8001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519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Specjaliści odnotowują wiele przypadków zachorowań na choroby odtytoniowe wśród osób, które nigdy nie paliły tytoni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Boczny strumień dymu tytoniowego zawiera wiele substancji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alergizujących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powodujących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łzawienie</a:t>
            </a:r>
            <a:r>
              <a:rPr b="1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oczu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podrażnienie błony śluzowej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nos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kaszel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, nawracające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zakażeni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 układu oddechowego, a także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uczulenia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 i w konsekwencji </a:t>
            </a:r>
            <a:r>
              <a:rPr b="1" lang="pl-PL" sz="2800" spc="-1" strike="noStrike">
                <a:solidFill>
                  <a:srgbClr val="ffff66"/>
                </a:solidFill>
                <a:latin typeface="Arial"/>
                <a:ea typeface="Arial"/>
              </a:rPr>
              <a:t>astmę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5562720" y="4648320"/>
            <a:ext cx="2209680" cy="14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228960"/>
            <a:ext cx="8229600" cy="164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  <a:ea typeface="Arial"/>
              </a:rPr>
              <a:t>Niepokojące fakty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-152280" y="1066320"/>
            <a:ext cx="906768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Raport WHO - efekt pierwszego globalnego badania wpływu wdychania dymu tytoniowego przez osoby niepalące.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danie uwzględniło dane z lat 2004 - 2010, z 192 krajów na całym świecie. Ta ogromna ilość danych pozwoliła ustalić, że na całym świecie </a:t>
            </a:r>
            <a:r>
              <a:rPr b="0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40% dzieci, 33% niepalących mężczyzn i 35% niepalących kobi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wdycha dym z papierosów wypalanych przez inne osoby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Arial"/>
                <a:ea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Z powodu szkód zdrowotnych spowodowanych biernym paleniem 379 tys. osób umiera  </a:t>
            </a:r>
            <a:br>
              <a:rPr sz="2800"/>
            </a:br>
            <a:r>
              <a:rPr b="1" lang="en-US" sz="2800" spc="-1" strike="noStrike">
                <a:solidFill>
                  <a:srgbClr val="ffff66"/>
                </a:solidFill>
                <a:latin typeface="Arial"/>
                <a:ea typeface="Arial"/>
              </a:rPr>
              <a:t>na choroby serca, 165 tys. na infekcje dolnych dróg oddechowych, prawie 37 tys. na astmę oraz ponad 21 tys. na raka płuc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7"/>
          <p:cNvSpPr/>
          <p:nvPr/>
        </p:nvSpPr>
        <p:spPr>
          <a:xfrm>
            <a:off x="304920" y="360360"/>
            <a:ext cx="845820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kspozycja na dym tytoniowy w przypadku dzieci, zwłaszcza tych najmłodszych, prowadzi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częstszego występowani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orób układu oddechoweg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chorób ucha środkowego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algn="just">
              <a:lnSpc>
                <a:spcPct val="100000"/>
              </a:lnSpc>
              <a:buClr>
                <a:srgbClr val="ffff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rozwoju astmy i zaostrzenia przebiegu tej chorob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jnowsze badania coraz częściej wskazują też,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że dzieci te cechują się gorszym rozwojem psychofizycznym oraz sprawiają więcej kłopotów wychowawczy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zieci narażone na bierne paleni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ją trudności z pisaniem i czytaniem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dności w skupieniu uwagi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udności w przystosowaniu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ierpią na zaburzenia układu nerwowego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mpulsywność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dwrażliwość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iepokój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5410080" y="4343400"/>
            <a:ext cx="281952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-114840"/>
            <a:ext cx="815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4d4ce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-360" y="304920"/>
            <a:ext cx="8839080" cy="579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Największą dawkę dymu tytoniowego dzieci otrzymują w domu, dlatego tak ważne jest doprowadzenie 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do zwiększenia liczby domów  </a:t>
            </a:r>
            <a:br>
              <a:rPr sz="3600"/>
            </a:br>
            <a:r>
              <a:rPr b="0" lang="pl-PL" sz="3600" spc="-1" strike="noStrike">
                <a:solidFill>
                  <a:srgbClr val="ffffff"/>
                </a:solidFill>
                <a:latin typeface="Arial"/>
                <a:ea typeface="Arial"/>
              </a:rPr>
              <a:t>i mieszkań, w których się nie pali, poprzez działania edukacyjn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533520" y="6858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ziękuję za uwagę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066680" y="1752480"/>
            <a:ext cx="716292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240" y="0"/>
            <a:ext cx="8458200" cy="739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ff66"/>
                </a:solidFill>
                <a:latin typeface="Arial"/>
              </a:rPr>
              <a:t>KTO PALI CZĘŚCIEJ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Najbiedniejsi, najsłabiej wykształceni Polacy palą znacznie częściej (np. bezrobotni mężczyźni ok. 70%) niż osoby lepiej sytuowane z wyższym wykształceniem (wśród mężczyzn ok. 20%, kobiety – 15%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Do nałogowego, codziennego palenia tytoniu przyznaje się co trzeci Polak (31%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Codziennie pali (w grupie mężczyzn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36% dwudziestolatków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49% trzydziestolatków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51% czterdziestolatków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53 % pięćdziesięciolatkó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86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903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4568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Mężczyźni w Polsce palą średnio 18 papierosów dziennie, kobiety  13 papierosów, czyniąc tak przez wiele lat (średnio ok. 23 lata w ciągu życia zarówno kobiety jak </a:t>
            </a:r>
            <a:br>
              <a:rPr sz="2800"/>
            </a:b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i mężczyźni)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Zaprzestanie palenia następuje stosunkowo późno – u mężczyzn w 39 r.ż., a u kobiet nawet w 43 r.ż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69% mężczyzn i 53% kobiet wypaliło w swoim życiu przynajmniej 1 papieros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6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ffffff"/>
                </a:solidFill>
                <a:latin typeface="Arial"/>
              </a:rPr>
              <a:t>44 % mężczyzn i 49% kobiet eksperymentując z tytoniem w okresie dzieciństwa lub młodości w dorosłym życiu kontynuowało palenie tytoniu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"/>
              </a:rPr>
              <a:t>Palący dorosły ma problemy…</a:t>
            </a: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88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układem krążenia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układem oddechowy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płodnością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dc4d7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z układem nerwowym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6324480" y="182880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762120" y="1676520"/>
            <a:ext cx="1828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8" name="Picture 3" descr="palacz"/>
          <p:cNvPicPr/>
          <p:nvPr/>
        </p:nvPicPr>
        <p:blipFill>
          <a:blip r:embed="rId1"/>
          <a:stretch/>
        </p:blipFill>
        <p:spPr>
          <a:xfrm>
            <a:off x="685800" y="150840"/>
            <a:ext cx="7772400" cy="640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ffff66"/>
                </a:solidFill>
                <a:latin typeface="Arial"/>
              </a:rPr>
              <a:t>Diagnoza problemu </a:t>
            </a: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palenia tytoniu </a:t>
            </a:r>
            <a:br>
              <a:rPr sz="3600"/>
            </a:br>
            <a:r>
              <a:rPr b="1" lang="en-US" sz="3600" spc="-1" strike="noStrike">
                <a:solidFill>
                  <a:srgbClr val="ffff66"/>
                </a:solidFill>
                <a:latin typeface="Arial"/>
              </a:rPr>
              <a:t>wśród dzieci i młodzieży</a:t>
            </a:r>
            <a:endParaRPr b="0" lang="en-US" sz="36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16765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 Polsce codziennie zaczyna palić pół tysiąca dzieci, a rocznie po pierwszego papierosa sięga  około 180 tys. nieletnich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ukończenia jedenastu lat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Times New Roman"/>
              </a:rPr>
              <a:t>⅓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zieci ma już 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a sobą eksperymentowanie z paleniem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śród piętnastolatków ¼ pali regularnie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d lat osiemdziesiątych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gularnie pali więcej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ziewcząt niż chłopców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"/>
          <p:cNvPicPr/>
          <p:nvPr/>
        </p:nvPicPr>
        <p:blipFill>
          <a:blip r:embed="rId5"/>
          <a:stretch/>
        </p:blipFill>
        <p:spPr>
          <a:xfrm>
            <a:off x="5334120" y="4495680"/>
            <a:ext cx="320040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Najważniejsze problemy związane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z paleniem tytoniu w środowisku </a:t>
            </a:r>
            <a:br>
              <a:rPr sz="3200"/>
            </a:b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dzieci i młodzieży</a:t>
            </a:r>
            <a:endParaRPr b="0" lang="en-US" sz="32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80880" y="20574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bniżający się wiek dzieci eksperymentujących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 papierosami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trzymująca się liczba stałych palących w młodym wieku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e zmniejszająca się liczba palących dziewczą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młodych kobiet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5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Zjawisko 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biernego paleni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śród dzieci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4" descr=""/>
          <p:cNvPicPr/>
          <p:nvPr/>
        </p:nvPicPr>
        <p:blipFill>
          <a:blip r:embed="rId5"/>
          <a:stretch/>
        </p:blipFill>
        <p:spPr>
          <a:xfrm>
            <a:off x="6553080" y="4419720"/>
            <a:ext cx="167652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4000" spc="-1" strike="noStrike">
                <a:solidFill>
                  <a:srgbClr val="ffff66"/>
                </a:solidFill>
                <a:latin typeface="Tahoma"/>
              </a:rPr>
              <a:t>Dym tytoniowy szkodzi niepalącym</a:t>
            </a:r>
            <a:br>
              <a:rPr sz="3600"/>
            </a:br>
            <a:endParaRPr b="0" lang="en-US" sz="40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87631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ym papierosowy zawiera ponad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4 tys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substancji chemicznych, w tym aż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40 związków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rakotwórczych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 Wdychanie dymu tytoniowego, czyli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bierne paleni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, jest równie niebezpieczne jak samo palenie. Boczny strumień dymu tytoniowego zawiera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35 razy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ęcej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dwutlenku węgla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2-4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więcej </a:t>
            </a:r>
            <a:r>
              <a:rPr b="1" lang="en-US" sz="2800" spc="-1" strike="noStrike">
                <a:solidFill>
                  <a:srgbClr val="ffff66"/>
                </a:solidFill>
                <a:latin typeface="Arial"/>
              </a:rPr>
              <a:t>nikotyny</a:t>
            </a:r>
            <a:r>
              <a:rPr b="0" lang="en-US" sz="28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iż dym wdychan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zez aktywnych palaczy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4800600" y="3733920"/>
            <a:ext cx="38098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4545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Tahoma"/>
              </a:rPr>
              <a:t>Dym tytoniowy szkodzi niepalącym</a:t>
            </a:r>
            <a:endParaRPr b="0" lang="en-US" sz="4400" spc="-1" strike="noStrike">
              <a:solidFill>
                <a:srgbClr val="d4d4ce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51920" y="1600200"/>
            <a:ext cx="85345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ym boczny wydostaje się w ciągu całego czasu palenia papierosa i nie jest filtrowany ani przez filtr papierosowy, ani przez „żywy filtr”, jakim są płuca, dym główny natomiast jest wdychany jedynie przez 20-30 sekun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Z</cp:lastModifiedBy>
  <dcterms:modified xsi:type="dcterms:W3CDTF">2013-10-10T07:44:01Z</dcterms:modified>
  <cp:revision>1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